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AFCB-CFF1-4F47-823A-14234283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4C15-D76F-46E4-8E7E-9E66A8E9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9D73-4DC3-4643-A5A9-282EC55D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A2F-B495-4C67-A6DC-BD01A453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DAB-10DE-4714-BB86-BE28894A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706-98A5-45A0-BB89-C3271422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DCE-188C-452D-B383-EC8971AA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11C-AE9C-477D-A5BF-8539F60B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E374-8F7B-45AE-8EA1-F29C93DB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477-1010-4638-A6ED-B96CF541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22C7-DA22-4F1B-A952-0ECB94C5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CE0-F7AB-4B2B-AF34-0C771357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6D94-734B-4357-8A82-947D8B1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029C-71B8-4DEC-A4D6-609A43F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25EB-D21E-4DF9-8A66-8987EF2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022-DDEC-486D-9833-88CB917B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87C-6FEC-4B33-9AB8-9986128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9887-3015-4992-A0DB-B00116E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D47C-21E0-4E5E-969E-AAA0DF19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3E8D-1348-471D-9599-5A8C204A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B3AE-1614-43C0-A2F6-C06E5891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34F-A144-474D-BF73-E069E234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32A-3081-4DA5-9BF7-7A3264AF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F4B-7B85-440E-83C4-0D0DB4F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9F7-6CC9-4E9C-9A31-D373249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A6C-4523-40F6-AF42-7D876C5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E39-E867-4FF2-8FBD-13359EE2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014-BDFB-416E-BBB9-E95D238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3FE4-52BC-4657-BBF1-C11BF0668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049D-5141-4B6A-8781-C03E1A64B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029200" y="2895480"/>
            <a:ext cx="2895480" cy="1524240"/>
          </a:xfrm>
          <a:prstGeom prst="cloudCallout">
            <a:avLst>
              <a:gd name="adj1" fmla="val -60634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chaînes de télévision en Fra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8077320" cy="4770360"/>
        </p:xfrm>
        <a:graphic>
          <a:graphicData uri="http://schemas.openxmlformats.org/drawingml/2006/table">
            <a:tbl>
              <a:tblPr/>
              <a:tblGrid>
                <a:gridCol w="2667240"/>
                <a:gridCol w="27176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Stations de télévision en France sont attractifs parce que les programmes de divertissement, séries, documentaireset des nouvelles</a:t>
                      </a: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présente le spectacle le plus crédi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s'impliquer dans la réalisation des programmes de bienfaisance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Des programmes de télévision savent très bien pour attirer les spectateurs la diversité des program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 écoute quotidienne un spectacle en français  J'ai certainement apprendre de nouveaux mots</a:t>
                      </a: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Je veux savoir s'il ya question “d'apprendre le français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à lire facile regarder des spectacles sous-titré en franç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t</cp:lastModifiedBy>
  <dcterms:modified xsi:type="dcterms:W3CDTF">2011-10-29T19:10:57Z</dcterms:modified>
  <cp:revision>27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